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937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937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6225BB6-3454-4EA9-AAB0-A043DF1A7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7F2DBB0-62C8-49A0-A706-6445518DE3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317736-780F-4822-A529-9A1612F71C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558A5B5-9975-4142-9CC8-B1F09DFC1C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7B54144-186E-4890-BC72-1641239619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0600973-6983-454F-8E63-EEA690F54B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7BE3EE7-B478-42CA-8E7C-988DA8A715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0880D21-4BFC-456B-8DBA-B0320BF427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D47711E-406C-4CBF-B717-2C22D437C5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4E608EF-0186-4BC0-B0F1-09ECA1A5C8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967C847-E95D-4053-9180-B2F6CE1DCF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9965EBC-D0B2-4F31-9546-743BEDAC9D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5C6761F-4BC6-406A-9F05-A5C903832F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FDFE25E-3561-489A-A025-1E73D59A7A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1AC9102-1405-4D71-8165-7A91147F99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A78504A-B28A-4FF8-BE75-C61C6860C9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62B30FF-3D4A-4088-954E-4D94381E16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2320" y="755640"/>
            <a:ext cx="5030640" cy="3773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7240" y="4780080"/>
            <a:ext cx="549936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4BF9-5807-445F-B0AA-7CB7D14D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008-574D-4786-A82B-2D0B7BDA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3AE-16BC-4A95-9C91-20015996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F48-5AC7-4E50-8D87-A9A850CA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FFAE-739E-4755-8856-A3FF402B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63D2-DDC1-4127-B973-4EEC09B6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8765-3084-43EB-AFFA-438B1F6D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8BF6-A81E-4ABF-93D8-FF8105D6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627C-18C8-44C0-A013-B6B4269C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E796-1AA4-4B28-9794-0D975125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2783-24EF-4E8A-B931-BC6A1C34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0B0-DCEE-4442-B320-CEA41A53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B90B-4699-4798-A44A-F0592E3A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B69E-C392-472C-A9F8-C9275F7D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5A06-9D99-4222-9FAB-F3F72796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6C4F-5B91-492D-85C4-E9B4B97E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25C7-D52D-4247-9040-438C5695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E86-2D40-45FA-9811-2BDBE9ED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3E8-3AB7-44A6-95B6-1AD572A6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C7B-F74F-4822-9F28-621603B7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F01-0572-4B01-A32A-D2A44742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ABD-ECEB-4444-8451-1BEF110A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C5F-C3FC-47A1-A8CC-FA9D9568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192-0B60-486F-9DFE-580FB5B1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E721-B15B-4E33-85CC-F389468C75B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7805-9E12-484E-BCFB-7C6953A1756B}" type="slidenum"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2960" y="32857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ccecff"/>
                </a:solidFill>
                <a:latin typeface="Arial"/>
              </a:rPr>
              <a:t>What makes for ‘quality’ in Quality Teaching </a:t>
            </a:r>
            <a:br>
              <a:rPr sz="4800"/>
            </a:br>
            <a:br>
              <a:rPr sz="4800"/>
            </a:br>
            <a:r>
              <a:rPr b="0" lang="en-AU" sz="4800" spc="-1" strike="noStrike">
                <a:solidFill>
                  <a:srgbClr val="ccecff"/>
                </a:solidFill>
                <a:latin typeface="Arial"/>
              </a:rPr>
              <a:t>Revisiting the </a:t>
            </a:r>
            <a:br>
              <a:rPr sz="4800"/>
            </a:br>
            <a:r>
              <a:rPr b="0" lang="en-AU" sz="4800" spc="-1" strike="noStrike">
                <a:solidFill>
                  <a:srgbClr val="ccecff"/>
                </a:solidFill>
                <a:latin typeface="Arial"/>
              </a:rPr>
              <a:t>NSW </a:t>
            </a:r>
            <a:r>
              <a:rPr b="0" i="1" lang="en-AU" sz="4800" spc="-1" strike="noStrike">
                <a:solidFill>
                  <a:srgbClr val="ccecff"/>
                </a:solidFill>
                <a:latin typeface="Arial"/>
              </a:rPr>
              <a:t>Quality Teaching model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1. Intellectual qua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ep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ep underst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blematic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er order thin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etalangu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ubstantive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Working on intellectual qua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dentify and map concepts to be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reate opportunities for students to demonstrate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elp students to ask where knowledge comes from and how we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ink higher order thinking to importa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ment on language and how it fun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quire elaboration, rich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2. Quality learning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xplicit quality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gh expec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ocial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dents’ self-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dent 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Working on quality learning enviro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vide clear statements or examples of what constitutes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ry expecting more while supporting students’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Zero tolerance of nastiness, even poking f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quire students to take responsibility for their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nsider when choices help to increase significance and eng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3. Signific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ackground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ultural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nowledge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clus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nnected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arr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Working on signific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ind out and draw on what kids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ook beyond dominant cultural persp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nnect learning experiences and concepts wherever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pting out is not okay, include every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nnect school learning to something outside of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 the power of s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Use planning time well: In relation to QT ask the following ques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do I want the students to lear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y does that learning mat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m I going to get the students to produ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 well do I expect them to do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Quality teaching in contex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uthentic pedag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ductive pedag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Quality 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in ide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orous conceptual b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792000" y="242892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 underst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819000" y="325296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ious eng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825480" y="409572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ing respons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714240" y="4786200"/>
            <a:ext cx="57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Dimensions of the QT 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ellectual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Quality learning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ignific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ccecff"/>
                </a:solidFill>
                <a:latin typeface="Arial"/>
              </a:rPr>
              <a:t>The NSW Model of Pedag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2887560" y="2235240"/>
            <a:ext cx="4351320" cy="3784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3164040" y="2568600"/>
            <a:ext cx="2850840" cy="2978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3"/>
          <a:stretch/>
        </p:blipFill>
        <p:spPr>
          <a:xfrm>
            <a:off x="3745080" y="2635200"/>
            <a:ext cx="3139920" cy="2971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2778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2840" y="698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eptual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dagogy = Instruction +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al Ele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s/Practices v Intellectual De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ing skills v Approach to t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1800" y="571320"/>
            <a:ext cx="8420400" cy="965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tionale for Quality Teach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28760" y="199980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 for Students and Tea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mporary Intellectual Dema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, Citizenship, Personal Aff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s Professional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Relationship Between Intellectual Quality and Student Behaviou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835200" y="1608120"/>
          <a:ext cx="783252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608120"/>
                    <a:ext cx="78325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Text Box 4"/>
          <p:cNvSpPr/>
          <p:nvPr/>
        </p:nvSpPr>
        <p:spPr>
          <a:xfrm>
            <a:off x="638280" y="5950080"/>
            <a:ext cx="786744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room Observation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 rot="16200000">
            <a:off x="-138600" y="3363120"/>
            <a:ext cx="180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llectual Qu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 rot="16200000">
            <a:off x="4802040" y="3990240"/>
            <a:ext cx="33012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udents’ Self Reg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ccecff"/>
                </a:solidFill>
                <a:latin typeface="Arial"/>
              </a:rPr>
              <a:t>Relationship Between Intellectual Quality and Student Behaviou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844560" y="1635120"/>
          <a:ext cx="783288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35120"/>
                    <a:ext cx="783288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4"/>
          <p:cNvSpPr/>
          <p:nvPr/>
        </p:nvSpPr>
        <p:spPr>
          <a:xfrm>
            <a:off x="638280" y="5877000"/>
            <a:ext cx="786744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assroom Observation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 rot="16200000">
            <a:off x="-138600" y="3363120"/>
            <a:ext cx="180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llectual Qua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 rot="16200000">
            <a:off x="4802040" y="3990240"/>
            <a:ext cx="33012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gag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3:28:38Z</dcterms:created>
  <dc:creator>USD</dc:creator>
  <dc:description/>
  <dc:language>en-US</dc:language>
  <cp:lastModifiedBy>DET</cp:lastModifiedBy>
  <dcterms:modified xsi:type="dcterms:W3CDTF">2009-04-07T12:54:37Z</dcterms:modified>
  <cp:revision>27</cp:revision>
  <dc:subject/>
  <dc:title>Productive Pedagogy as a framework for enhancing teacher quality, preservice and inservice</dc:title>
</cp:coreProperties>
</file>